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6E34-A90A-43A0-9A47-33CA0AB65C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are rubbish dumps thought to be a bad 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recycling me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rubbish dumps thought to be a bad 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recycling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ses of plastics - Stat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s of plastics -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Plas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centage that can be recyc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7% of all household waste is plas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ually, 3 million tonnes of plastic rubbish are produc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7% of litter found on beaches is plas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2001 only 7% of all plastic was recycled. Is this the case in your househol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age that can be recyc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% of all household waste is pla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ly, 3 million tonnes of plastic rubbish are pro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% of litter found on beaches is pla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1 only 7% of all plastic was recycled. Is this the case in your househo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recycle plastic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consumption of energ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amounts of solid waste going to landfill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emissions of carbon-dioxide (CO2), nitrogen-oxide (NO) and sulphur-dioxide (SO2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recycle plast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onsumption of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amounts of solid waste going to landfi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emissions of carbon-dioxide (CO2), nitrogen-oxide (NO) and sulphur-dioxide (SO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are polymers recycl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stics must be sorted prior to mechanical recycl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polymers recyc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tics must be sorted prior to mechanical recyc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7FAB-7779-4643-A35F-E41AAAAE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2334-B01C-4F23-97CB-5B3162E9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A0D0-9CC7-482C-BA36-658F6A1D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AC03-1ADF-4D96-ADE3-538BDF3E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21C6-6795-45A6-8D87-23B1E1A5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BCF6-4CB4-43EF-9DC1-A5B7D363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20F2-A49E-4195-AEFF-B305A16E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6F8C-9495-4D19-BC05-B4FD7EBD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794C-CB59-47ED-85D9-17519467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8FFD-4C7B-40B4-90E4-D30F7E4B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5127-6E3D-4503-A22B-89B38B8D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3E99-0AA3-4E13-83E2-7CDB54C4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61D5-5EA3-439C-867F-5524F500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C3C7-F273-40C6-8A4D-9832B7D9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A436-E571-4D18-BAE9-BC49C108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F8C2-910B-4C9B-9415-AF60E315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67CA-FCE4-49EB-B95D-86313B10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B3B6-B9A8-4EFC-9EA0-683D4864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80C-5B95-4C21-80D6-AD76C970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4360-D187-4C8A-BA79-D69FC908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82C3-0E71-4604-AEBC-00782B06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153E-92AA-40A7-A653-D14631C1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F70E-34E2-4651-B9DE-BBAA08BF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99E0-7D5B-466E-AF6E-A8513C75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4607-AFF5-4B56-B6C2-5A55FCE87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2637-CA7D-40F0-A8AA-7872417A1C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b7"/>
                </a:solidFill>
                <a:latin typeface="Arial Black"/>
              </a:rPr>
              <a:t>Start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are rubbish dumps thought to be a bad th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does recycling me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Uses of plastics - Statistic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6" descr="Uses of plastic as percentage"/>
          <p:cNvPicPr/>
          <p:nvPr/>
        </p:nvPicPr>
        <p:blipFill>
          <a:blip r:embed="rId1"/>
          <a:stretch/>
        </p:blipFill>
        <p:spPr>
          <a:xfrm>
            <a:off x="971640" y="1484280"/>
            <a:ext cx="74880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Types of Plasti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7720" y="1904760"/>
          <a:ext cx="8007480" cy="4190760"/>
        </p:xfrm>
        <a:graphic>
          <a:graphicData uri="http://schemas.openxmlformats.org/drawingml/2006/table"/>
        </a:graphic>
      </p:graphicFrame>
      <p:pic>
        <p:nvPicPr>
          <p:cNvPr id="111" name="Picture 12" descr="Recycling Logo"/>
          <p:cNvPicPr/>
          <p:nvPr/>
        </p:nvPicPr>
        <p:blipFill>
          <a:blip r:embed="rId1"/>
          <a:stretch/>
        </p:blipFill>
        <p:spPr>
          <a:xfrm>
            <a:off x="-571680" y="1260360"/>
            <a:ext cx="3337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Recycling Logo"/>
          <p:cNvPicPr/>
          <p:nvPr/>
        </p:nvPicPr>
        <p:blipFill>
          <a:blip r:embed="rId2"/>
          <a:stretch/>
        </p:blipFill>
        <p:spPr>
          <a:xfrm>
            <a:off x="-571680" y="1222200"/>
            <a:ext cx="343080" cy="314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Recycling Logo"/>
          <p:cNvPicPr/>
          <p:nvPr/>
        </p:nvPicPr>
        <p:blipFill>
          <a:blip r:embed="rId3"/>
          <a:stretch/>
        </p:blipFill>
        <p:spPr>
          <a:xfrm>
            <a:off x="-571680" y="117324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Recycling Logo"/>
          <p:cNvPicPr/>
          <p:nvPr/>
        </p:nvPicPr>
        <p:blipFill>
          <a:blip r:embed="rId4"/>
          <a:stretch/>
        </p:blipFill>
        <p:spPr>
          <a:xfrm>
            <a:off x="-571680" y="106668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Recycling Logo"/>
          <p:cNvPicPr/>
          <p:nvPr/>
        </p:nvPicPr>
        <p:blipFill>
          <a:blip r:embed="rId5"/>
          <a:stretch/>
        </p:blipFill>
        <p:spPr>
          <a:xfrm>
            <a:off x="-571680" y="1019160"/>
            <a:ext cx="333720" cy="314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ecycling Logo"/>
          <p:cNvPicPr/>
          <p:nvPr/>
        </p:nvPicPr>
        <p:blipFill>
          <a:blip r:embed="rId6"/>
          <a:stretch/>
        </p:blipFill>
        <p:spPr>
          <a:xfrm>
            <a:off x="-571680" y="96984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Recycling Logo"/>
          <p:cNvPicPr/>
          <p:nvPr/>
        </p:nvPicPr>
        <p:blipFill>
          <a:blip r:embed="rId7"/>
          <a:stretch/>
        </p:blipFill>
        <p:spPr>
          <a:xfrm>
            <a:off x="-571680" y="952560"/>
            <a:ext cx="343080" cy="3142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3"/>
          <p:cNvSpPr/>
          <p:nvPr/>
        </p:nvSpPr>
        <p:spPr>
          <a:xfrm>
            <a:off x="571680" y="219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0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8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979640" y="1700280"/>
          <a:ext cx="5133960" cy="4906800"/>
        </p:xfrm>
        <a:graphic>
          <a:graphicData uri="http://schemas.openxmlformats.org/drawingml/2006/table">
            <a:tbl>
              <a:tblPr/>
              <a:tblGrid>
                <a:gridCol w="615960"/>
                <a:gridCol w="860400"/>
                <a:gridCol w="365760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ethylene terephthalat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Fizzy drink bottles and oven-ready meal tra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D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High-density polyeth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Bottles for milk and washing-up liquid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V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vinyl chlorid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Food trays, cling film, bottles for squash, mineral water and shampo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D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ow density polyeth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Carrier bags and bin line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prop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Margarine tubs, microwaveable meal tra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styr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Yoghurt pots, foam meat or fish trays, hamburger boxes and egg cartons, vending cups, plastic cutlery, protective packaging for electronic goods and to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ny other plastic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that do not fall into any of the above categories. - An example is melamine, which is often used in plastic plates and cup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Percentage that can be recycl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out 7% of all household waste is plast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ually, 3 million tonnes of plastic rubbish are p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7% of litter found on beaches is plast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2001 only 7% of all plastic was recycled. Is this the case in your househol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y recycle plastic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consumption of energ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amounts of solid waste going to landfil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emissions of carbon-dioxide (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, nitrogen-oxide (NO) and sulphur-dioxide (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How are polymers recycled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stics must be sorted prior to mechanical recycl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Mo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at can we do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20:09:29Z</dcterms:created>
  <dc:creator>EP School</dc:creator>
  <dc:description>Starter plastic recycling</dc:description>
  <cp:keywords>Starter plastic recycling</cp:keywords>
  <dc:language>en-US</dc:language>
  <cp:lastModifiedBy>RomaK</cp:lastModifiedBy>
  <dcterms:modified xsi:type="dcterms:W3CDTF">2015-09-02T06:00:44Z</dcterms:modified>
  <cp:revision>14</cp:revision>
  <dc:subject>Starter plastic recycling</dc:subject>
  <dc:title>Starter plastic recycling</dc:title>
</cp:coreProperties>
</file>